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26.png" ContentType="image/png"/>
  <Override PartName="/ppt/media/image17.jpeg" ContentType="image/jpeg"/>
  <Override PartName="/ppt/media/image32.jpeg" ContentType="image/jpeg"/>
  <Override PartName="/ppt/media/image11.wmf" ContentType="image/x-wmf"/>
  <Override PartName="/ppt/media/image5.jpeg" ContentType="image/jpeg"/>
  <Override PartName="/ppt/media/image34.jpeg" ContentType="image/jpeg"/>
  <Override PartName="/ppt/media/image28.jpeg" ContentType="image/jpeg"/>
  <Override PartName="/ppt/media/image41.png" ContentType="image/pn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1E9D-8232-436A-827A-41FE5CBDBA9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30D0-C3C3-4840-87B6-DC71926D3D7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4559-7660-4F74-9AE1-632EECBDAE0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7DD7-DC12-4206-9919-363B99F2B4F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9C2-5533-4D9A-B826-093D5F86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B018-799D-4F74-9553-92133B9E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F6A-7093-4371-9A41-D8758820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C1E-79F0-42EB-928F-DB42F183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0185-A0DC-45CA-9133-837B0E38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4F5E-DBCF-45DC-9741-697B4851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D776-0DB5-48E5-88C7-8D17D097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B0FD-5DB0-4A28-B2A4-04E9900B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91C5-5EC5-4FBB-A6C1-5A220C32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BC57-B5DA-4B5C-BFA8-1BA37A74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19A2-68EC-40BD-AA45-F122B3AE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137C-5F6C-4D92-98BC-E33F815D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921D-9188-47DF-A1C0-A684BC01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3E93-FFC9-4E76-B941-F763CB10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FD61-4BE3-4153-9BCD-5C4C0435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8A15-DD1C-4992-87FF-64E3BCBC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F9A9-8AB2-4768-ADED-11E8F17A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66D79-AAA8-4887-AC3B-B17A9095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CEE2D-2203-4B62-ACB4-93E2AB57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5F300-26EC-405D-B421-3DB7177E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0C8BD-477F-44C6-9D20-AFF26C03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94CCB-D749-4EEB-B328-24931395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CBC8-FA04-459C-9F2E-18459918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A8B53-F390-45BC-BEFF-84CB50D5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8638B-C803-4401-BFC3-48BEF6D6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8753F-8A22-4727-9E5F-7241F631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43DCA-0A9C-47E0-91B1-13A1E077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C30FA-BC5D-426C-933A-A89C3625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09B16-777F-4528-80E2-FDB21F22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E8212-F499-49B4-B51F-1A9A547A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4EDB6-ACE6-4838-B663-9731242C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BE067-84DA-4D9F-8D13-DA668CD3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DD8EC-6D4F-4AF4-88B0-84C8284A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94D-9C18-4349-879E-C54ECA5C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13B9B-CE8F-40CA-8E0D-20E539C3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5BB47-4A53-4647-B220-25FAF0F2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2703F-BBA1-427E-8911-804F527A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AB9BC-A144-4682-A3CA-30F4CCD3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945DD-7654-460D-AB30-E9175F62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6D587-BAB9-4137-BD2F-66A41D1F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9B3FC-947D-4A08-B17C-35F6167C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2B5B4-D2DA-4040-89B7-651AF944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70D12-4D40-4B31-AEE1-F522A9D0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DBE-F114-4E0E-B656-1F750AD7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CC0-F446-42A9-86B9-277C97C5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14B4-A90E-4359-8024-EC701741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0AB-6A94-431F-9384-958EB3AD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588A-5434-48E5-A779-3D13AE52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EDEC-0E45-47FC-A645-1D4F23AC8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ADF0-2711-462C-A8E0-C844400B9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61EA-9470-44A2-8AEB-4496F5AA09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8F4C-EBA2-4BD8-9240-AF4C501D16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2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2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morsu.ru/lom/img/biography/600/02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Tahoma"/>
              </a:rPr>
              <a:t>Девиз юных исследователей: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О том поразмысли, что ждёт вперед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ль выбрав благую, к ней прямо иди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6" descr="F:\для дроздовой с.в\Scan-111212-0005.jpg"/>
          <p:cNvPicPr/>
          <p:nvPr/>
        </p:nvPicPr>
        <p:blipFill>
          <a:blip r:embed="rId1"/>
          <a:stretch/>
        </p:blipFill>
        <p:spPr>
          <a:xfrm>
            <a:off x="6934320" y="4952880"/>
            <a:ext cx="13716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5"/>
          <p:cNvSpPr/>
          <p:nvPr/>
        </p:nvSpPr>
        <p:spPr>
          <a:xfrm>
            <a:off x="1676520" y="304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уть Ломоносова В Москв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6" descr="путь в москву"/>
          <p:cNvPicPr/>
          <p:nvPr/>
        </p:nvPicPr>
        <p:blipFill>
          <a:blip r:embed="rId1"/>
          <a:stretch/>
        </p:blipFill>
        <p:spPr>
          <a:xfrm>
            <a:off x="304920" y="914400"/>
            <a:ext cx="4103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Прямоугольник 9"/>
          <p:cNvSpPr/>
          <p:nvPr/>
        </p:nvSpPr>
        <p:spPr>
          <a:xfrm>
            <a:off x="1677600" y="281952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Холмогор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Прямоугольник 10"/>
          <p:cNvSpPr/>
          <p:nvPr/>
        </p:nvSpPr>
        <p:spPr>
          <a:xfrm>
            <a:off x="537480" y="617220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AutoShape 10"/>
          <p:cNvSpPr/>
          <p:nvPr/>
        </p:nvSpPr>
        <p:spPr>
          <a:xfrm rot="21102000">
            <a:off x="2998800" y="2939760"/>
            <a:ext cx="649440" cy="431640"/>
          </a:xfrm>
          <a:prstGeom prst="leftArrow">
            <a:avLst>
              <a:gd name="adj1" fmla="val 50000"/>
              <a:gd name="adj2" fmla="val 3761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Рисунок 12" descr="image_large.jpg"/>
          <p:cNvPicPr/>
          <p:nvPr/>
        </p:nvPicPr>
        <p:blipFill>
          <a:blip r:embed="rId2"/>
          <a:stretch/>
        </p:blipFill>
        <p:spPr>
          <a:xfrm>
            <a:off x="5370480" y="950760"/>
            <a:ext cx="2567160" cy="387036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13"/>
          <p:cNvSpPr/>
          <p:nvPr/>
        </p:nvSpPr>
        <p:spPr>
          <a:xfrm>
            <a:off x="4572000" y="4724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305cb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1305cb"/>
                </a:solidFill>
                <a:latin typeface="Times New Roman"/>
              </a:rPr>
              <a:t>Сын крестьянина-помора из деревни Денисовка около Холмогор в устье северной Двины, он в 19 лет отправился пешком в Москв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06 0.037 C -0.04184 0.05596 -0.04341 0.06335 -0.03664 0.077 C -0.03612 0.07908 -0.03629 0.08185 -0.03507 0.08347 C -0.03386 0.08509 -0.03178 0.08439 -0.03021 0.08555 C -0.02691 0.08786 -0.02396 0.0911 -0.02084 0.09387 C -0.01806 0.09642 -0.01615 0.10104 -0.01441 0.10451 C -0.01146 0.11676 -0.01112 0.12994 -0.00973 0.14266 C -0.01094 0.1778 -0.00348 0.18844 -0.02553 0.1933 C -0.03212 0.1963 -0.03612 0.20301 -0.04306 0.20601 C -0.04896 0.21133 -0.0533 0.21711 -0.0573 0.22497 C -0.05921 0.2326 -0.0632 0.25734 -0.06841 0.26312 C -0.06945 0.26428 -0.07917 0.26705 -0.07952 0.26728 C -0.08264 0.27006 -0.08594 0.27306 -0.08907 0.27584 C -0.09046 0.277 -0.08994 0.28 -0.09063 0.28208 C -0.09341 0.28948 -0.09358 0.28833 -0.09862 0.29272 C -0.10539 0.32 -0.08698 0.37642 -0.10799 0.38567 C -0.11007 0.38983 -0.11164 0.39468 -0.11441 0.39838 C -0.11598 0.40046 -0.11771 0.40231 -0.1191 0.40463 C -0.12796 0.41989 -0.12119 0.41549 -0.13021 0.41942 C -0.13681 0.42821 -0.14254 0.43885 -0.14775 0.44902 C -0.14966 0.45272 -0.15105 0.45734 -0.15417 0.45965 C -0.15816 0.46266 -0.16962 0.46359 -0.17153 0.46382 C -0.17917 0.46752 -0.18716 0.47399 -0.19219 0.48301 C -0.19445 0.48717 -0.19862 0.49572 -0.19862 0.49572 E">
                                      <p:cBhvr>
                                        <p:cTn id="26" dur="5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авяно–греко–латинская академия в Москве</a:t>
            </a:r>
            <a:br>
              <a:rPr sz="3600"/>
            </a:b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190760" y="114300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305cb"/>
                </a:solidFill>
                <a:latin typeface="Times New Roman"/>
              </a:rPr>
              <a:t>В 1730 году поступил в </a:t>
            </a:r>
            <a:r>
              <a:rPr b="1" i="1" lang="ru-RU" sz="2800" spc="-1" strike="noStrike">
                <a:solidFill>
                  <a:srgbClr val="1305cb"/>
                </a:solidFill>
                <a:latin typeface="Times New Roman"/>
              </a:rPr>
              <a:t>Славяно-греко-латинскую академию в Москве, где он не только приобрёл вкус к научным занятиям, но изучил латинский язык, ознакомился с тогдашними науками и учебными дисциплин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Picture 6" descr="Рисунок1"/>
          <p:cNvPicPr/>
          <p:nvPr/>
        </p:nvPicPr>
        <p:blipFill>
          <a:blip r:embed="rId1"/>
          <a:stretch/>
        </p:blipFill>
        <p:spPr>
          <a:xfrm>
            <a:off x="380880" y="990720"/>
            <a:ext cx="3429000" cy="55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уроке в академии…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pic>
        <p:nvPicPr>
          <p:cNvPr id="218" name="Picture 2" descr="D:\школа\клип\Клип_10_измен.размер.jpg"/>
          <p:cNvPicPr/>
          <p:nvPr/>
        </p:nvPicPr>
        <p:blipFill>
          <a:blip r:embed="rId1"/>
          <a:stretch/>
        </p:blipFill>
        <p:spPr>
          <a:xfrm>
            <a:off x="228600" y="1219320"/>
            <a:ext cx="4729320" cy="48765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3"/>
          <p:cNvSpPr/>
          <p:nvPr/>
        </p:nvSpPr>
        <p:spPr>
          <a:xfrm>
            <a:off x="5029200" y="160020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« </a:t>
            </a: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Малые ребята кричат и перстами указывают: смотри-де, какой болван лет в двадцать пришел латыни учиться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В ноябре 1735года в числе 12-ти лучших учеников отправили в Петербургскую академию наук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pic>
        <p:nvPicPr>
          <p:cNvPr id="221" name="Picture 2" descr="D:\школа\клип\Клип_11_измен.размер.jpg"/>
          <p:cNvPicPr/>
          <p:nvPr/>
        </p:nvPicPr>
        <p:blipFill>
          <a:blip r:embed="rId1"/>
          <a:stretch/>
        </p:blipFill>
        <p:spPr>
          <a:xfrm>
            <a:off x="609480" y="2057400"/>
            <a:ext cx="7872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736 год, Марбург, Германия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pic>
        <p:nvPicPr>
          <p:cNvPr id="223" name="Picture 11" descr="slide0012_image024"/>
          <p:cNvPicPr/>
          <p:nvPr/>
        </p:nvPicPr>
        <p:blipFill>
          <a:blip r:embed="rId1"/>
          <a:stretch/>
        </p:blipFill>
        <p:spPr>
          <a:xfrm>
            <a:off x="304920" y="228600"/>
            <a:ext cx="1676160" cy="3324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Рисунок5"/>
          <p:cNvPicPr/>
          <p:nvPr/>
        </p:nvPicPr>
        <p:blipFill>
          <a:blip r:embed="rId2"/>
          <a:stretch/>
        </p:blipFill>
        <p:spPr>
          <a:xfrm>
            <a:off x="2133720" y="1447920"/>
            <a:ext cx="3581280" cy="5175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5"/>
          <p:cNvSpPr/>
          <p:nvPr/>
        </p:nvSpPr>
        <p:spPr>
          <a:xfrm>
            <a:off x="5943600" y="1600200"/>
            <a:ext cx="297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1305cb"/>
                </a:solidFill>
                <a:latin typeface="Times New Roman"/>
              </a:rPr>
              <a:t>Осенью 1736 г. трое лучших студентов, в том числе Ломоносов, были отправлены Академией Наук в Германию, для обучения математике, физике, химии философии и металлург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Прямоугольник 5"/>
          <p:cNvSpPr/>
          <p:nvPr/>
        </p:nvSpPr>
        <p:spPr>
          <a:xfrm>
            <a:off x="152280" y="36576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Студент немецко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университета</a:t>
            </a:r>
            <a:r>
              <a:rPr b="0" lang="ru-RU" sz="1800" spc="-1" strike="noStrike">
                <a:solidFill>
                  <a:srgbClr val="1305c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2" descr="SPBLAB.gif"/>
          <p:cNvPicPr/>
          <p:nvPr/>
        </p:nvPicPr>
        <p:blipFill>
          <a:blip r:embed="rId1"/>
          <a:stretch/>
        </p:blipFill>
        <p:spPr>
          <a:xfrm>
            <a:off x="835200" y="225360"/>
            <a:ext cx="4773600" cy="35481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" descr="2-1-22.jpg"/>
          <p:cNvPicPr/>
          <p:nvPr/>
        </p:nvPicPr>
        <p:blipFill>
          <a:blip r:embed="rId2"/>
          <a:stretch/>
        </p:blipFill>
        <p:spPr>
          <a:xfrm>
            <a:off x="5327640" y="2664000"/>
            <a:ext cx="3481560" cy="28652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1143000" y="396252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По возвращению в Москву, в 1745 году, Ломоносов стал первым русским профессором, членом Академии нау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Tahoma"/>
              </a:rPr>
              <a:t>За какие заслуги М.В.Ломоносов был удостоен столь высокого звания профессора Академии наук?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ahoma"/>
              </a:rPr>
              <a:t>Везде исследуйте всечасно,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Tahoma"/>
              </a:rPr>
              <a:t>Что есть велико и прекрасно,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Tahoma"/>
              </a:rPr>
              <a:t>Чего ещё не видел свет.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.В.Ломонос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0920" y="2361960"/>
            <a:ext cx="3962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Tahoma"/>
              </a:rPr>
              <a:t>Методы </a:t>
            </a:r>
            <a:r>
              <a:rPr b="0" lang="ru-RU" sz="4000" spc="-1" strike="noStrike">
                <a:solidFill>
                  <a:srgbClr val="1f497d"/>
                </a:solidFill>
                <a:latin typeface="Tahoma"/>
              </a:rPr>
              <a:t>исследования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Picture 2" descr="F:\для дроздовой с.в\Scan-111212-0001.jpg"/>
          <p:cNvPicPr/>
          <p:nvPr/>
        </p:nvPicPr>
        <p:blipFill>
          <a:blip r:embed="rId1"/>
          <a:stretch/>
        </p:blipFill>
        <p:spPr>
          <a:xfrm>
            <a:off x="7010280" y="60948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F:\для дроздовой с.в\Scan-111212-0002.jpg"/>
          <p:cNvPicPr/>
          <p:nvPr/>
        </p:nvPicPr>
        <p:blipFill>
          <a:blip r:embed="rId2"/>
          <a:stretch/>
        </p:blipFill>
        <p:spPr>
          <a:xfrm>
            <a:off x="609480" y="533520"/>
            <a:ext cx="1447920" cy="1143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F:\для дроздовой с.в\Scan-111212-0003.jpg"/>
          <p:cNvPicPr/>
          <p:nvPr/>
        </p:nvPicPr>
        <p:blipFill>
          <a:blip r:embed="rId3"/>
          <a:stretch/>
        </p:blipFill>
        <p:spPr>
          <a:xfrm>
            <a:off x="3657600" y="609480"/>
            <a:ext cx="1295280" cy="1143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F:\для дроздовой с.в\Scan-111212-0004.jpg"/>
          <p:cNvPicPr/>
          <p:nvPr/>
        </p:nvPicPr>
        <p:blipFill>
          <a:blip r:embed="rId4"/>
          <a:stretch/>
        </p:blipFill>
        <p:spPr>
          <a:xfrm>
            <a:off x="685800" y="2743200"/>
            <a:ext cx="1447920" cy="1219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F:\для дроздовой с.в\Scan-111212-0005.jpg"/>
          <p:cNvPicPr/>
          <p:nvPr/>
        </p:nvPicPr>
        <p:blipFill>
          <a:blip r:embed="rId5"/>
          <a:stretch/>
        </p:blipFill>
        <p:spPr>
          <a:xfrm>
            <a:off x="914400" y="5181480"/>
            <a:ext cx="1371600" cy="1295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F:\для дроздовой с.в\Scan-111212-0006.jpg"/>
          <p:cNvPicPr/>
          <p:nvPr/>
        </p:nvPicPr>
        <p:blipFill>
          <a:blip r:embed="rId6"/>
          <a:stretch/>
        </p:blipFill>
        <p:spPr>
          <a:xfrm>
            <a:off x="3962520" y="5181480"/>
            <a:ext cx="1371600" cy="1295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F:\для дроздовой с.в\Scan-111212-0007.jpg"/>
          <p:cNvPicPr/>
          <p:nvPr/>
        </p:nvPicPr>
        <p:blipFill>
          <a:blip r:embed="rId7"/>
          <a:stretch/>
        </p:blipFill>
        <p:spPr>
          <a:xfrm>
            <a:off x="7010280" y="518148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F:\для дроздовой с.в\Scan-111212-0008.jpg"/>
          <p:cNvPicPr/>
          <p:nvPr/>
        </p:nvPicPr>
        <p:blipFill>
          <a:blip r:embed="rId8"/>
          <a:stretch/>
        </p:blipFill>
        <p:spPr>
          <a:xfrm>
            <a:off x="7162920" y="2819520"/>
            <a:ext cx="1371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Tahoma"/>
              </a:rPr>
              <a:t>Исследовательские умения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pic>
        <p:nvPicPr>
          <p:cNvPr id="245" name="Picture 5" descr="F:\для дроздовой с.в\Scan-111212-0003.jpg"/>
          <p:cNvPicPr/>
          <p:nvPr/>
        </p:nvPicPr>
        <p:blipFill>
          <a:blip r:embed="rId1"/>
          <a:stretch/>
        </p:blipFill>
        <p:spPr>
          <a:xfrm>
            <a:off x="609480" y="2057400"/>
            <a:ext cx="3754440" cy="39132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нализиров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делять главно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лать умозаключения и выв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сказывать сужд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0920" y="2361960"/>
            <a:ext cx="3962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Tahoma"/>
              </a:rPr>
              <a:t>Методы </a:t>
            </a:r>
            <a:r>
              <a:rPr b="0" lang="ru-RU" sz="4000" spc="-1" strike="noStrike">
                <a:solidFill>
                  <a:srgbClr val="1f497d"/>
                </a:solidFill>
                <a:latin typeface="Tahoma"/>
              </a:rPr>
              <a:t>исследования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2" descr="F:\для дроздовой с.в\Scan-111212-0001.jpg"/>
          <p:cNvPicPr/>
          <p:nvPr/>
        </p:nvPicPr>
        <p:blipFill>
          <a:blip r:embed="rId1"/>
          <a:stretch/>
        </p:blipFill>
        <p:spPr>
          <a:xfrm>
            <a:off x="7010280" y="60948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F:\для дроздовой с.в\Scan-111212-0002.jpg"/>
          <p:cNvPicPr/>
          <p:nvPr/>
        </p:nvPicPr>
        <p:blipFill>
          <a:blip r:embed="rId2"/>
          <a:stretch/>
        </p:blipFill>
        <p:spPr>
          <a:xfrm>
            <a:off x="609480" y="533520"/>
            <a:ext cx="1447920" cy="1143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F:\для дроздовой с.в\Scan-111212-0003.jpg"/>
          <p:cNvPicPr/>
          <p:nvPr/>
        </p:nvPicPr>
        <p:blipFill>
          <a:blip r:embed="rId3"/>
          <a:stretch/>
        </p:blipFill>
        <p:spPr>
          <a:xfrm>
            <a:off x="3657600" y="609480"/>
            <a:ext cx="1295280" cy="1143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F:\для дроздовой с.в\Scan-111212-0004.jpg"/>
          <p:cNvPicPr/>
          <p:nvPr/>
        </p:nvPicPr>
        <p:blipFill>
          <a:blip r:embed="rId4"/>
          <a:stretch/>
        </p:blipFill>
        <p:spPr>
          <a:xfrm>
            <a:off x="685800" y="2743200"/>
            <a:ext cx="1447920" cy="1219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F:\для дроздовой с.в\Scan-111212-0005.jpg"/>
          <p:cNvPicPr/>
          <p:nvPr/>
        </p:nvPicPr>
        <p:blipFill>
          <a:blip r:embed="rId5"/>
          <a:stretch/>
        </p:blipFill>
        <p:spPr>
          <a:xfrm>
            <a:off x="914400" y="5181480"/>
            <a:ext cx="1371600" cy="1295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F:\для дроздовой с.в\Scan-111212-0006.jpg"/>
          <p:cNvPicPr/>
          <p:nvPr/>
        </p:nvPicPr>
        <p:blipFill>
          <a:blip r:embed="rId6"/>
          <a:stretch/>
        </p:blipFill>
        <p:spPr>
          <a:xfrm>
            <a:off x="3962520" y="5181480"/>
            <a:ext cx="1371600" cy="1295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F:\для дроздовой с.в\Scan-111212-0007.jpg"/>
          <p:cNvPicPr/>
          <p:nvPr/>
        </p:nvPicPr>
        <p:blipFill>
          <a:blip r:embed="rId7"/>
          <a:stretch/>
        </p:blipFill>
        <p:spPr>
          <a:xfrm>
            <a:off x="7010280" y="518148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F:\для дроздовой с.в\Scan-111212-0008.jpg"/>
          <p:cNvPicPr/>
          <p:nvPr/>
        </p:nvPicPr>
        <p:blipFill>
          <a:blip r:embed="rId8"/>
          <a:stretch/>
        </p:blipFill>
        <p:spPr>
          <a:xfrm>
            <a:off x="7162920" y="2819520"/>
            <a:ext cx="1371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8" descr="сканирование0018"/>
          <p:cNvPicPr/>
          <p:nvPr/>
        </p:nvPicPr>
        <p:blipFill>
          <a:blip r:embed="rId1"/>
          <a:stretch/>
        </p:blipFill>
        <p:spPr>
          <a:xfrm>
            <a:off x="228600" y="1219320"/>
            <a:ext cx="4103640" cy="37987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4343400" y="228600"/>
            <a:ext cx="3683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Ломоносов по-новому осознал роль и значение химии, её место среди наук, изучающих природу. Он называл химию наук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228600" y="5181480"/>
            <a:ext cx="4038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«Слово о пользе Химии» Ломоносо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Прямоугольник 4"/>
          <p:cNvSpPr/>
          <p:nvPr/>
        </p:nvSpPr>
        <p:spPr>
          <a:xfrm>
            <a:off x="1914840" y="304920"/>
            <a:ext cx="49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юбимая наука -хим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Picture 2" descr="D:\школа\клип\Клип_16_измен.размер.jpg"/>
          <p:cNvPicPr/>
          <p:nvPr/>
        </p:nvPicPr>
        <p:blipFill>
          <a:blip r:embed="rId2"/>
          <a:stretch/>
        </p:blipFill>
        <p:spPr>
          <a:xfrm>
            <a:off x="5562720" y="3733920"/>
            <a:ext cx="30938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350x280"/>
          <p:cNvPicPr/>
          <p:nvPr/>
        </p:nvPicPr>
        <p:blipFill>
          <a:blip r:embed="rId1"/>
          <a:stretch/>
        </p:blipFill>
        <p:spPr>
          <a:xfrm>
            <a:off x="3429000" y="2209680"/>
            <a:ext cx="5410080" cy="43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3" name="Прямоугольник 4"/>
          <p:cNvSpPr/>
          <p:nvPr/>
        </p:nvSpPr>
        <p:spPr>
          <a:xfrm>
            <a:off x="457200" y="45720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305cb"/>
                </a:solidFill>
                <a:latin typeface="Times New Roman"/>
              </a:rPr>
              <a:t>           </a:t>
            </a:r>
            <a:r>
              <a:rPr b="1" i="1" lang="ru-RU" sz="2400" spc="-1" strike="noStrike">
                <a:solidFill>
                  <a:srgbClr val="1305cb"/>
                </a:solidFill>
                <a:latin typeface="Times New Roman"/>
              </a:rPr>
              <a:t>В 1748 он создал химическую лабораторию, в которой проводил научные исследования, в том числе разрабатывал состав стекла, фарфора и смальты, которую использовал для своих мозаик, созданных в 1751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Прямоугольник 5"/>
          <p:cNvSpPr/>
          <p:nvPr/>
        </p:nvSpPr>
        <p:spPr>
          <a:xfrm>
            <a:off x="152280" y="4952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305cb"/>
                </a:solidFill>
                <a:latin typeface="Tahoma"/>
              </a:rPr>
              <a:t>       </a:t>
            </a:r>
            <a:r>
              <a:rPr b="1" i="1" lang="ru-RU" sz="18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Ломоносов в сво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химической лаборатор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крытия в области химии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5562720" y="1676520"/>
            <a:ext cx="34290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305c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305cb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Открыл первую химическую лабораторию в Росс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305c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Составил рецепт для приготовления фарфоровых ма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305c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Разработал принципы новой науки «Физической хими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Picture 9" descr="Рисунок6"/>
          <p:cNvPicPr/>
          <p:nvPr/>
        </p:nvPicPr>
        <p:blipFill>
          <a:blip r:embed="rId1"/>
          <a:stretch/>
        </p:blipFill>
        <p:spPr>
          <a:xfrm>
            <a:off x="152280" y="1523880"/>
            <a:ext cx="5343480" cy="43434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8"/>
          <p:cNvSpPr/>
          <p:nvPr/>
        </p:nvSpPr>
        <p:spPr>
          <a:xfrm>
            <a:off x="771120" y="601992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Диплом профессора хим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омоносов - художник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486040" y="1371600"/>
            <a:ext cx="3352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Открыл секрет изготовления смаль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Изготовил 40 мозаичных карти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Избран почетным членом Петербургской Академии художест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Открыл мозаичную мастерску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Picture 2" descr="D:\школа\клип\Клип_24_измен.размер.jpg"/>
          <p:cNvPicPr/>
          <p:nvPr/>
        </p:nvPicPr>
        <p:blipFill>
          <a:blip r:embed="rId1"/>
          <a:stretch/>
        </p:blipFill>
        <p:spPr>
          <a:xfrm>
            <a:off x="152280" y="1447920"/>
            <a:ext cx="2819520" cy="37400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Полтавская баталия мозаика"/>
          <p:cNvPicPr/>
          <p:nvPr/>
        </p:nvPicPr>
        <p:blipFill>
          <a:blip r:embed="rId2"/>
          <a:stretch/>
        </p:blipFill>
        <p:spPr>
          <a:xfrm>
            <a:off x="2743200" y="3276720"/>
            <a:ext cx="2819520" cy="32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крытия в области физики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Открыл закон сохранения матери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Сконструировал термомет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2095560" cy="2685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"/>
          <p:cNvPicPr/>
          <p:nvPr/>
        </p:nvPicPr>
        <p:blipFill>
          <a:blip r:embed="rId2"/>
          <a:stretch/>
        </p:blipFill>
        <p:spPr>
          <a:xfrm>
            <a:off x="1371600" y="4267080"/>
            <a:ext cx="3200400" cy="23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крытия в области астрономии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486040" y="1752120"/>
            <a:ext cx="335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Усовершенствовал подзорную трубу, которую называл «ночезрительный» прибор «для сгущения свет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Открыл атмосферу на Венер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9" name="Picture 12" descr="8"/>
          <p:cNvPicPr/>
          <p:nvPr/>
        </p:nvPicPr>
        <p:blipFill>
          <a:blip r:embed="rId1"/>
          <a:stretch/>
        </p:blipFill>
        <p:spPr>
          <a:xfrm>
            <a:off x="2362320" y="2286000"/>
            <a:ext cx="3124080" cy="4321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сканирование0035"/>
          <p:cNvPicPr/>
          <p:nvPr/>
        </p:nvPicPr>
        <p:blipFill>
          <a:blip r:embed="rId2"/>
          <a:stretch/>
        </p:blipFill>
        <p:spPr>
          <a:xfrm>
            <a:off x="144360" y="990720"/>
            <a:ext cx="229392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34920" y="1886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крытия в области географии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288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составил «Полярную карту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разработал приборы для морского кораблевожд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доказал существование материка на Южном полюсе (Антарктиды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доказал возможность Северного морского пути в Инди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3" name="Picture 2" descr="D:\школа\клип\Клип_19_измен.размер.jpg"/>
          <p:cNvPicPr/>
          <p:nvPr/>
        </p:nvPicPr>
        <p:blipFill>
          <a:blip r:embed="rId1"/>
          <a:stretch/>
        </p:blipFill>
        <p:spPr>
          <a:xfrm>
            <a:off x="152280" y="228600"/>
            <a:ext cx="2971800" cy="3841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67-92"/>
          <p:cNvPicPr/>
          <p:nvPr/>
        </p:nvPicPr>
        <p:blipFill>
          <a:blip r:embed="rId2"/>
          <a:stretch/>
        </p:blipFill>
        <p:spPr>
          <a:xfrm>
            <a:off x="2286000" y="3733920"/>
            <a:ext cx="2703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Рисунок 1" descr="1233594658_lomonosov.jpg"/>
          <p:cNvPicPr/>
          <p:nvPr/>
        </p:nvPicPr>
        <p:blipFill>
          <a:blip r:embed="rId1"/>
          <a:stretch/>
        </p:blipFill>
        <p:spPr>
          <a:xfrm>
            <a:off x="0" y="1143000"/>
            <a:ext cx="3895560" cy="509760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2" descr="279955.jpg"/>
          <p:cNvPicPr/>
          <p:nvPr/>
        </p:nvPicPr>
        <p:blipFill>
          <a:blip r:embed="rId2"/>
          <a:stretch/>
        </p:blipFill>
        <p:spPr>
          <a:xfrm>
            <a:off x="6629400" y="228600"/>
            <a:ext cx="2357280" cy="24289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3"/>
          <p:cNvSpPr/>
          <p:nvPr/>
        </p:nvSpPr>
        <p:spPr>
          <a:xfrm>
            <a:off x="3429000" y="1523880"/>
            <a:ext cx="3505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Ломоносов первым в России обратил внимание на историю самой Земли и на причины образования полезных ископаемых. Михаил Васильевич составил каталог минералов Росс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Прямоугольник 4"/>
          <p:cNvSpPr/>
          <p:nvPr/>
        </p:nvSpPr>
        <p:spPr>
          <a:xfrm>
            <a:off x="683280" y="304920"/>
            <a:ext cx="473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еталлург, геолог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крытия в области поэзии и литературы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pic>
        <p:nvPicPr>
          <p:cNvPr id="280" name="Picture 2" descr="D:\школа\клип\Клип_14_измен.размер_измен.размер.jpg"/>
          <p:cNvPicPr/>
          <p:nvPr/>
        </p:nvPicPr>
        <p:blipFill>
          <a:blip r:embed="rId1"/>
          <a:stretch/>
        </p:blipFill>
        <p:spPr>
          <a:xfrm>
            <a:off x="304920" y="1676520"/>
            <a:ext cx="4689360" cy="2644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D:\школа\клип\Клип_15_измен.размер.jpg"/>
          <p:cNvPicPr/>
          <p:nvPr/>
        </p:nvPicPr>
        <p:blipFill>
          <a:blip r:embed="rId2"/>
          <a:stretch/>
        </p:blipFill>
        <p:spPr>
          <a:xfrm>
            <a:off x="5715000" y="1600200"/>
            <a:ext cx="2987640" cy="425448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4"/>
          <p:cNvSpPr/>
          <p:nvPr/>
        </p:nvSpPr>
        <p:spPr>
          <a:xfrm>
            <a:off x="304920" y="441972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305c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Разработал правила русского языка, составил книгу «Русская грамматика»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1305c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В 1751году вышел «Сборник разных сочинений в стихах и в прозе Михаила Ломоносова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крытия в области истории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Написал 1-ый том Российской истор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Составил «Краткий Летописец с родословием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Picture 2" descr="D:\школа\клип\Клип_21_измен.размер.jpg"/>
          <p:cNvPicPr/>
          <p:nvPr/>
        </p:nvPicPr>
        <p:blipFill>
          <a:blip r:embed="rId1"/>
          <a:stretch/>
        </p:blipFill>
        <p:spPr>
          <a:xfrm>
            <a:off x="3886200" y="2057400"/>
            <a:ext cx="3780000" cy="4500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4"/>
          <p:cNvPicPr/>
          <p:nvPr/>
        </p:nvPicPr>
        <p:blipFill>
          <a:blip r:embed="rId2"/>
          <a:stretch/>
        </p:blipFill>
        <p:spPr>
          <a:xfrm>
            <a:off x="7391520" y="990720"/>
            <a:ext cx="1447560" cy="1917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1f497d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752480" y="685800"/>
          <a:ext cx="5029200" cy="4952880"/>
        </p:xfrm>
        <a:graphic>
          <a:graphicData uri="http://schemas.openxmlformats.org/drawingml/2006/table">
            <a:tbl>
              <a:tblPr/>
              <a:tblGrid>
                <a:gridCol w="457200"/>
                <a:gridCol w="581040"/>
                <a:gridCol w="460440"/>
                <a:gridCol w="482760"/>
                <a:gridCol w="439560"/>
                <a:gridCol w="460440"/>
                <a:gridCol w="358920"/>
                <a:gridCol w="407880"/>
                <a:gridCol w="460440"/>
                <a:gridCol w="500040"/>
                <a:gridCol w="420480"/>
              </a:tblGrid>
              <a:tr h="349200">
                <a:tc gridSpan="3"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80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16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8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9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ГРАДЫ – Орден Ломоносова </a:t>
            </a:r>
            <a:br>
              <a:rPr sz="4000"/>
            </a:b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pic>
        <p:nvPicPr>
          <p:cNvPr id="288" name="Picture 4" descr="Орден Лосоносова"/>
          <p:cNvPicPr/>
          <p:nvPr/>
        </p:nvPicPr>
        <p:blipFill>
          <a:blip r:embed="rId1"/>
          <a:stretch/>
        </p:blipFill>
        <p:spPr>
          <a:xfrm>
            <a:off x="152280" y="1447920"/>
            <a:ext cx="4708800" cy="46479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724280" y="1371600"/>
            <a:ext cx="41673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Орденом Ломоносова награждаются граждане за высокие достижения в государственной, производственной, научно- исследовательской, социальной, культурной, общественной и благотворительной деятельности, в области науки, литературы и искус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инквейн 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219320" y="1676520"/>
          <a:ext cx="6705360" cy="4521240"/>
        </p:xfrm>
        <a:graphic>
          <a:graphicData uri="http://schemas.openxmlformats.org/drawingml/2006/table">
            <a:tbl>
              <a:tblPr/>
              <a:tblGrid>
                <a:gridCol w="2265120"/>
                <a:gridCol w="1239840"/>
                <a:gridCol w="828720"/>
                <a:gridCol w="1152720"/>
                <a:gridCol w="1218960"/>
              </a:tblGrid>
              <a:tr h="94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1305cb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1305cb"/>
                          </a:solidFill>
                          <a:latin typeface="Times New Roman"/>
                          <a:ea typeface="Times New Roman"/>
                        </a:rPr>
                        <a:t>де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305cb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1305cb"/>
                          </a:solidFill>
                          <a:latin typeface="Times New Roman"/>
                          <a:ea typeface="Times New Roman"/>
                        </a:rPr>
                        <a:t>1существитель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305cb"/>
                          </a:solidFill>
                          <a:latin typeface="Times New Roman"/>
                          <a:ea typeface="Times New Roman"/>
                        </a:rPr>
                        <a:t>Ломон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305cb"/>
                          </a:solidFill>
                          <a:latin typeface="Times New Roman"/>
                          <a:ea typeface="Times New Roman"/>
                        </a:rPr>
                        <a:t>2 прилаг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305cb"/>
                          </a:solidFill>
                          <a:latin typeface="Times New Roman"/>
                          <a:ea typeface="Times New Roman"/>
                        </a:rPr>
                        <a:t>3 глаг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305cb"/>
                          </a:solidFill>
                          <a:latin typeface="Times New Roman"/>
                          <a:ea typeface="Times New Roman"/>
                        </a:rPr>
                        <a:t>Фра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305cb"/>
                          </a:solidFill>
                          <a:latin typeface="Times New Roman"/>
                          <a:ea typeface="Times New Roman"/>
                        </a:rPr>
                        <a:t>Выв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ращение  М.В.Ломоносова к потомкам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 вы, которых ожидает Отечество от недр свои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 видеть таковых желает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аких зовет из стран чужих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, ваши дни благословенны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ерзайте ныне ободренн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ченьем вашим показат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Что может собственных Платон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 быстрых разумом Невтон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оссийская земля рождать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380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ahoma"/>
              </a:rPr>
              <a:t>  </a:t>
            </a:r>
            <a:br>
              <a:rPr sz="4000"/>
            </a:b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343040" y="2590920"/>
            <a:ext cx="4800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«Многие звезды украшали русское небо восемнадцатого столетия. Звездою первой величины явилась слава Михаила Ломоносова»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Б. Шерги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457200" y="228600"/>
            <a:ext cx="3962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10" descr="Ломоносов Михаил Васильевич"/>
          <p:cNvPicPr/>
          <p:nvPr/>
        </p:nvPicPr>
        <p:blipFill>
          <a:blip r:embed="rId1"/>
          <a:stretch/>
        </p:blipFill>
        <p:spPr>
          <a:xfrm>
            <a:off x="228600" y="609480"/>
            <a:ext cx="4044960" cy="495324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5"/>
          <p:cNvSpPr/>
          <p:nvPr/>
        </p:nvSpPr>
        <p:spPr>
          <a:xfrm>
            <a:off x="4572000" y="304920"/>
            <a:ext cx="3683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ихаил Васильевич Ломоносо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10" descr="MCj02900630000[1]"/>
          <p:cNvPicPr/>
          <p:nvPr/>
        </p:nvPicPr>
        <p:blipFill>
          <a:blip r:embed="rId2"/>
          <a:stretch/>
        </p:blipFill>
        <p:spPr>
          <a:xfrm>
            <a:off x="6629400" y="5200560"/>
            <a:ext cx="12952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1305cb"/>
                </a:solidFill>
                <a:latin typeface="Times New Roman"/>
                <a:ea typeface="Times New Roman"/>
              </a:rPr>
              <a:t>Около 300 лет назад в рыбацкой деревушке Денисовка, на севере России, близ г.Холмогоры рос здоровый и крепкий мальчик. Звали его Михайлой Ломоносовым.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Tahoma"/>
            </a:endParaRPr>
          </a:p>
        </p:txBody>
      </p:sp>
      <p:pic>
        <p:nvPicPr>
          <p:cNvPr id="195" name="Picture 7" descr="Деревня, в которой родился Ломоносов. По рисунку XIX 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600200"/>
            <a:ext cx="7570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десь стоял дом семьи Ломоносовых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pic>
        <p:nvPicPr>
          <p:cNvPr id="197" name="Picture 2" descr="D:\школа\клип\Клип_25_измен.размер_измен.размер.jpg"/>
          <p:cNvPicPr/>
          <p:nvPr/>
        </p:nvPicPr>
        <p:blipFill>
          <a:blip r:embed="rId1"/>
          <a:stretch/>
        </p:blipFill>
        <p:spPr>
          <a:xfrm>
            <a:off x="1219320" y="1752480"/>
            <a:ext cx="655308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алиот «Чайка», принадлежащий Ломоносовым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pic>
        <p:nvPicPr>
          <p:cNvPr id="199" name="Picture 2" descr="D:\школа\клип\Клип_4_измен.размер.jpg"/>
          <p:cNvPicPr/>
          <p:nvPr/>
        </p:nvPicPr>
        <p:blipFill>
          <a:blip r:embed="rId1"/>
          <a:stretch/>
        </p:blipFill>
        <p:spPr>
          <a:xfrm>
            <a:off x="609480" y="1905120"/>
            <a:ext cx="7848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ые учебники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800240" y="9907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05cb"/>
                </a:solidFill>
                <a:latin typeface="Times New Roman"/>
              </a:rPr>
              <a:t>В </a:t>
            </a:r>
            <a:r>
              <a:rPr b="1" i="1" lang="ru-RU" sz="2400" spc="-1" strike="noStrike">
                <a:solidFill>
                  <a:srgbClr val="1305cb"/>
                </a:solidFill>
                <a:latin typeface="Times New Roman"/>
              </a:rPr>
              <a:t>11-12 лет Михайло начал учиться грамоте. Его первым учителем был дьячок местной церкви. Он прочитал все, что было под рукой. У соседа нашлись славянская «Грамматика» Мелетия Смотрицкого и «Арифметика» Леонтия Магницкого. Он их читал с таким усердием, что выучил наизу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9" descr="18_1_m"/>
          <p:cNvPicPr/>
          <p:nvPr/>
        </p:nvPicPr>
        <p:blipFill>
          <a:blip r:embed="rId1"/>
          <a:stretch/>
        </p:blipFill>
        <p:spPr>
          <a:xfrm>
            <a:off x="127080" y="1143000"/>
            <a:ext cx="3336840" cy="2514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18_2_m"/>
          <p:cNvPicPr/>
          <p:nvPr/>
        </p:nvPicPr>
        <p:blipFill>
          <a:blip r:embed="rId2"/>
          <a:stretch/>
        </p:blipFill>
        <p:spPr>
          <a:xfrm>
            <a:off x="1295280" y="3809880"/>
            <a:ext cx="3517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ahoma"/>
              </a:rPr>
              <a:t>«принужден был читать и учиться…в уединенных и пустых местах»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pic>
        <p:nvPicPr>
          <p:cNvPr id="205" name="Picture 2" descr="D:\школа\клип\Клип_5_измен.размер.jpg"/>
          <p:cNvPicPr/>
          <p:nvPr/>
        </p:nvPicPr>
        <p:blipFill>
          <a:blip r:embed="rId1"/>
          <a:stretch/>
        </p:blipFill>
        <p:spPr>
          <a:xfrm>
            <a:off x="228600" y="2209680"/>
            <a:ext cx="3276720" cy="4017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D:\школа\клип\Клип_6_измен.размер.jpg"/>
          <p:cNvPicPr/>
          <p:nvPr/>
        </p:nvPicPr>
        <p:blipFill>
          <a:blip r:embed="rId2"/>
          <a:stretch/>
        </p:blipFill>
        <p:spPr>
          <a:xfrm>
            <a:off x="3657600" y="2209680"/>
            <a:ext cx="52293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ылибцева Е.И.</dc:creator>
  <dc:description/>
  <dc:language>en-US</dc:language>
  <cp:lastModifiedBy>www.PHILka.RU</cp:lastModifiedBy>
  <dcterms:modified xsi:type="dcterms:W3CDTF">2012-05-22T17:18:17Z</dcterms:modified>
  <cp:revision>94</cp:revision>
  <dc:subject>След Ломоносова в жизни России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